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689-C0DB-41B0-8523-F006E2A4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1DA-2C5B-48E4-B6E7-6C4E7178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3F6-A260-4F40-B048-6BA9CBB1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3B6-EDAF-464A-B43D-DE374FA4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F0F7-7E43-439B-ADD7-A4D131B3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D868-1299-4220-9F69-060F3870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35E5-2ADE-4768-A8CD-7649334F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8051-E184-4CDE-838A-3C3BE6F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5D3D-02BF-43EE-8BEE-0E43F361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3745-693C-44AC-9D61-56145B06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B3EE-E6A6-4EA3-9BD9-59DF0D7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1E8-F5D3-46B5-9406-F7BDA1E2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62A6-B5FD-4669-A25C-CA521F75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641A-918F-49EC-867D-5746891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7A8A-50A7-40E3-A57D-080039FC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7C2C-F6E7-4E61-B43C-6CD5C4D4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E77-C3C9-4939-89A4-1DD169E3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824-AB0C-48D4-AD29-BBD771E5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138-733B-498A-B10F-1E754DB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DD2-8822-4C9A-B2DA-4034706F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A41-F1E4-42FD-A399-0D7B9C5F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B8C-D03E-4733-852D-8C3F37D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B1F-4CEA-44AB-99E5-676FF50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B87-DF2C-43EC-BDEB-8E42DF1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CE4-6686-44B9-90C6-CC3FC2ABB13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DD7C-74E6-4B5D-8062-DDB5FE1918A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25760" y="197928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82400"/>
                </a:solidFill>
                <a:latin typeface="Castellar"/>
              </a:rPr>
              <a:t>Evolution by </a:t>
            </a:r>
            <a:br>
              <a:rPr sz="5000"/>
            </a:br>
            <a:r>
              <a:rPr b="1" lang="en-US" sz="5000" spc="-1" strike="noStrike">
                <a:solidFill>
                  <a:srgbClr val="482400"/>
                </a:solidFill>
                <a:latin typeface="Castellar"/>
              </a:rPr>
              <a:t>Natural Selection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Lyell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797 – 1875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geolog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Darwin learned from Lyell that processes that affect the Earth also affect the organisms that inhabit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Lyell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15120" y="2560680"/>
            <a:ext cx="25797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3300"/>
                </a:solidFill>
                <a:latin typeface="Times New Roman"/>
              </a:rPr>
              <a:t>as you dig deeper into the Earth, the older the fossils ar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0" r="41850" b="0"/>
          <a:stretch/>
        </p:blipFill>
        <p:spPr>
          <a:xfrm>
            <a:off x="996840" y="2235240"/>
            <a:ext cx="5067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Alfred Wallace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823 – 1913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2000" y="1633680"/>
            <a:ext cx="808200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natura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ame up with the theory of natural selection about the same time as Darwin (actually, he didn’t publish his book until 18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he gave Darwin two of his unpublished papers to read; some suggest that these papers gave Darwin the motivation to publish his book quickly (before Walla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28640" y="26031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Castellar"/>
              </a:rPr>
              <a:t>Theory of Evolution by Natural Sele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53352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Arial Black"/>
              </a:rPr>
              <a:t>Struggle for Exist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8288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members of each species compete regularly to obtain food, living space, and other necessitie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53352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Arial Black"/>
              </a:rPr>
              <a:t>Survival of the Fittes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8288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those that are well suited to their environment are more likely to survive and pass on their tra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533520"/>
            <a:ext cx="767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Arial Black"/>
              </a:rPr>
              <a:t>Descent with Modific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8288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each species has descended, with changes, from other species ov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78040" y="3639960"/>
            <a:ext cx="8265960" cy="1492560"/>
            <a:chOff x="878040" y="3639960"/>
            <a:chExt cx="8265960" cy="1492560"/>
          </a:xfrm>
        </p:grpSpPr>
        <p:sp>
          <p:nvSpPr>
            <p:cNvPr id="131" name=""/>
            <p:cNvSpPr/>
            <p:nvPr/>
          </p:nvSpPr>
          <p:spPr>
            <a:xfrm>
              <a:off x="878040" y="3639960"/>
              <a:ext cx="758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* a trait favored in one environm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44600" y="4429080"/>
              <a:ext cx="779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may not be favored in anoth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78040" y="1811160"/>
            <a:ext cx="7438680" cy="1438560"/>
            <a:chOff x="878040" y="1811160"/>
            <a:chExt cx="7438680" cy="1438560"/>
          </a:xfrm>
        </p:grpSpPr>
        <p:sp>
          <p:nvSpPr>
            <p:cNvPr id="134" name=""/>
            <p:cNvSpPr/>
            <p:nvPr/>
          </p:nvSpPr>
          <p:spPr>
            <a:xfrm>
              <a:off x="878040" y="1811160"/>
              <a:ext cx="743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* without genetic variation,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25520" y="2546280"/>
              <a:ext cx="693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evolution is not possibl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A few defini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Speciation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57320" y="1828800"/>
            <a:ext cx="7620120" cy="2603520"/>
            <a:chOff x="1057320" y="1828800"/>
            <a:chExt cx="7620120" cy="2603520"/>
          </a:xfrm>
        </p:grpSpPr>
        <p:sp>
          <p:nvSpPr>
            <p:cNvPr id="139" name=""/>
            <p:cNvSpPr/>
            <p:nvPr/>
          </p:nvSpPr>
          <p:spPr>
            <a:xfrm>
              <a:off x="1057320" y="2706840"/>
              <a:ext cx="690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of natural selection o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57320" y="1828800"/>
              <a:ext cx="762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ormation of new species (by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57320" y="3728880"/>
              <a:ext cx="647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Isolation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82400"/>
                </a:solidFill>
                <a:latin typeface="Castellar"/>
              </a:rPr>
              <a:t>Evolution -</a:t>
            </a:r>
            <a:r>
              <a:rPr b="1" lang="en-US" sz="5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76916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tic changes in a species over time usually to allow the organism to better adapt to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Geographic Isolation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28600" y="1703520"/>
            <a:ext cx="7639200" cy="3913200"/>
            <a:chOff x="1128600" y="1703520"/>
            <a:chExt cx="7639200" cy="3913200"/>
          </a:xfrm>
        </p:grpSpPr>
        <p:sp>
          <p:nvSpPr>
            <p:cNvPr id="144" name=""/>
            <p:cNvSpPr/>
            <p:nvPr/>
          </p:nvSpPr>
          <p:spPr>
            <a:xfrm>
              <a:off x="1147680" y="4913280"/>
              <a:ext cx="745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l become two different speci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28600" y="4086360"/>
              <a:ext cx="7369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fferent environments) that the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7680" y="3298680"/>
              <a:ext cx="751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come so different (because of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492280"/>
              <a:ext cx="693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geographically), they often wil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1703520"/>
              <a:ext cx="762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a species is separat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514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82400"/>
                </a:solidFill>
                <a:latin typeface="Castellar"/>
              </a:rPr>
              <a:t>History &amp; Scientists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Darwin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809 – 1882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9320" y="1981080"/>
            <a:ext cx="7619760" cy="1389240"/>
            <a:chOff x="1219320" y="1981080"/>
            <a:chExt cx="7619760" cy="1389240"/>
          </a:xfrm>
        </p:grpSpPr>
        <p:sp>
          <p:nvSpPr>
            <p:cNvPr id="94" name=""/>
            <p:cNvSpPr/>
            <p:nvPr/>
          </p:nvSpPr>
          <p:spPr>
            <a:xfrm>
              <a:off x="1905120" y="2666880"/>
              <a:ext cx="457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ory of evolu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9320" y="1981080"/>
              <a:ext cx="761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 naturalist that is credited with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Darwin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809 – 1882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410080"/>
            <a:ext cx="716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:  birds with different beaks….they ate different food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1828800"/>
            <a:ext cx="8153280" cy="3218040"/>
            <a:chOff x="914400" y="1828800"/>
            <a:chExt cx="8153280" cy="3218040"/>
          </a:xfrm>
        </p:grpSpPr>
        <p:sp>
          <p:nvSpPr>
            <p:cNvPr id="99" name=""/>
            <p:cNvSpPr/>
            <p:nvPr/>
          </p:nvSpPr>
          <p:spPr>
            <a:xfrm>
              <a:off x="1523880" y="4343400"/>
              <a:ext cx="723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imals for over 20 year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23880" y="3778200"/>
              <a:ext cx="73915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bitats; he studied plants an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3124080"/>
              <a:ext cx="723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fferent because of differ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243828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plants but they looked slightl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1828800"/>
              <a:ext cx="815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 he repeatedly saw similar animal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Darwin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809 – 1882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828800"/>
            <a:ext cx="8076960" cy="3751560"/>
            <a:chOff x="762120" y="1828800"/>
            <a:chExt cx="8076960" cy="3751560"/>
          </a:xfrm>
        </p:grpSpPr>
        <p:sp>
          <p:nvSpPr>
            <p:cNvPr id="106" name=""/>
            <p:cNvSpPr/>
            <p:nvPr/>
          </p:nvSpPr>
          <p:spPr>
            <a:xfrm>
              <a:off x="1447920" y="4876920"/>
              <a:ext cx="655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1600" y="411480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cestor by the process of natura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600" y="3276720"/>
              <a:ext cx="746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olved (changed) from a comm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259092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at the similar animals and plant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1828800"/>
              <a:ext cx="807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 he concluded (in his 1858 book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Scientists that “helped” Darw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Thomas Malthus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766 – 1834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ed that if human population continued to grow unchecked, there would be insufficient living space and food for every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Jean-Baptiste Lamarck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744 – 1829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natura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proposed that by selective use or disuse of organs, organisms acquired or lost traits; these traits could then be passed on to their offsp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he first part of his hypothesis was proven incorrect but Darwin used the “idea” for his hypothesis of natur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7:47:07Z</dcterms:created>
  <dc:creator>Plano ISD</dc:creator>
  <dc:description/>
  <dc:language>en-US</dc:language>
  <cp:lastModifiedBy>Amy Schilling</cp:lastModifiedBy>
  <dcterms:modified xsi:type="dcterms:W3CDTF">2008-03-04T14:18:48Z</dcterms:modified>
  <cp:revision>28</cp:revision>
  <dc:subject/>
  <dc:title>PowerPoint Presentation</dc:title>
</cp:coreProperties>
</file>